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D0E-9372-49EB-8376-5E14B201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21A-E5CF-4BF4-AB8B-288DE902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29C-FA76-482A-BDCC-C06C660A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F2B-C903-46BF-B236-DF2BB31F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83A-1053-4457-BE4C-11278716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26C-67F7-4DB7-BA62-A523B8F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1F2E-8ED7-4DEE-A5D9-68748796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805-9063-445E-A624-CF3CCD8B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903-4A93-455F-801C-64349D8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53B1-5562-4560-A55F-E93E401F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C382-D474-496F-85F8-D946550B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754-F347-4116-AB07-E26F32A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BE8F-3FB0-4CC4-8146-FE56528E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CE14-5933-486F-914B-41B7EFE6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C351-55A8-449A-9638-3F685515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A6A8-8CCF-4F74-8D53-B47D1C20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AE40-B665-4068-BC04-6785A187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5A7B-EA59-49CE-AC42-7E3F55CD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6722-CDA9-4E6B-83DC-C495DF38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1B6B-3562-4977-8A56-145A497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9C7A-F52F-4808-8E76-BE55CAC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1801-30E4-46DA-834C-8E8315D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EC5-AB28-4E9F-ABA4-96042ADA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5F2C6-C9FD-4590-8825-7E061B98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B821-AA2D-4428-9DBC-1C2E0973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45F4-BD45-45EE-995C-35FFFB1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9795-E7E8-4427-8834-8B50379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7219-EF0F-4F9E-A7BE-D38857A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79576-C3EB-40C0-BD4A-E8E8DE9B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256C-E463-4D7A-8620-3C4E946A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9FC2-6F7D-465F-9546-ADCABCEF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81D8-4DCA-4A34-8538-5592909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783F-758E-44DF-A6A9-47E49013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879-4D0D-4639-804D-ABA27AE3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1F6BE-7101-44C3-873C-C359CBF2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43F8-D930-49D1-BC6E-4F739F17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AE91-77D8-421F-BAD8-9B0DC9A6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22D5-8263-475B-A563-A119C32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D6BC-71D3-4258-9CF7-4B3DE9D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BC9D-D36A-4616-A8F3-1C11ABB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ACAD-A4AB-453B-8415-0ADEF36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E3C4-6EBA-4EAA-AD19-96636A15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9DA4-61EE-49E1-9B2F-3A33122E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F0C0C-B4A0-44D9-8923-C114A4CB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068-13AC-4B5E-9D61-581381FB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38BA-D71C-4E9C-882A-FC788488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636B7-6AD7-4EB8-8747-FA4EBF3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F31A-E131-40BB-BB6A-A2EF971C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D3F3B-64AE-40DB-AB0E-A86BAE13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1335A-B6C4-40C5-8D4F-689DEB2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EC9C-F04D-4F1F-BE7D-3B1D09D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1ECCE-3585-421F-BC7C-D6B894E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2112-96FF-4DDC-BD53-B0EF6D6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58AD0-00EF-4DAF-9490-FA62B13A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C7B7-3E91-490A-8A60-A57AAAC6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2CF-973A-487C-973B-9EE70D10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2B515-9470-4999-AF78-E4ADEEDF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F13D-DC81-4E7C-A54B-6CB02AE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22DFC-F48A-4AE5-A763-36FC0473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9AECA-1DFB-4C96-88E7-6036F4CD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638EA-B63A-44F6-AC03-28B5B004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7D29-E925-4356-AD06-3CDFD4D5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C626D-C114-4D0C-B00B-EE8FB43A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33B0C-AADD-4981-A190-3C9BBD2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BB14-C56F-4A77-ACBC-995DDC1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08FEB-E320-4763-902E-6A2A29F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D63-C61B-4203-A1E1-402FF68A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FE40-B8BE-4463-BDF1-9249130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090D-E5CA-4CF4-8ECE-827906D4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6E99-10BA-42F0-8E45-18914D80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D1B5-2073-441C-B6EC-5662A357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F754-31AD-4B35-9951-E88F4B87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6438-A19B-4388-B250-3E97F47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5B4A-76B7-4465-9570-2256B40B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7015-1800-4450-8675-8FFCE7D7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0915-5AC4-425E-AFEC-DF003B5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C179A-D002-45B2-8227-3618752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CA6-B4AB-4EFD-8064-ECFD58EC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2F8F-1D57-476E-88F1-72E7001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9333-35B4-45B4-ACDF-785D7EA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31F47-F352-42F2-8F0D-ACCC6F7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C6D79-BF90-4DC9-A50F-9FFA44D4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BCD5C-D1D0-4AEB-82E3-EBE737E8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5F1-AF4D-424A-8DB5-3F99C99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94AA-3B94-4F73-BF44-3582666E6CCA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9A78-AE5E-40C3-A0EE-E20113F35FB7}" type="slidenum">
              <a:rPr b="0" lang="en-NZ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7BD9-C01F-4739-B462-1CF0B5AFC730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73C-01FA-431B-BD18-B88F7F2B5251}" type="slidenum">
              <a:rPr b="0" lang="en-NZ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F849-3A35-456A-A492-54DEFFB3DB39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99F-A00E-4EA8-9F35-AD115FA611F9}" type="slidenum">
              <a:rPr b="0" lang="en-NZ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1D5D-DE42-4AA8-B7B0-4E7123246206}" type="slidenum">
              <a:rPr b="0" lang="en-NZ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000080" y="-1341360"/>
            <a:ext cx="7862760" cy="6413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-158760" y="5499000"/>
            <a:ext cx="6566040" cy="1365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big%20tudor%20house.jpg"/>
          <p:cNvPicPr/>
          <p:nvPr/>
        </p:nvPicPr>
        <p:blipFill>
          <a:blip r:embed="rId3"/>
          <a:stretch/>
        </p:blipFill>
        <p:spPr>
          <a:xfrm>
            <a:off x="803160" y="538200"/>
            <a:ext cx="2676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950760" y="1500120"/>
            <a:ext cx="7242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-324000"/>
            <a:ext cx="8339400" cy="1994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914400" y="18828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6705720" cy="2048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31840" y="-73080"/>
            <a:ext cx="8461440" cy="1743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914400" y="18828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933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62080" y="768240"/>
            <a:ext cx="8345520" cy="1481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1214280" y="2428920"/>
            <a:ext cx="6072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36:11Z</dcterms:created>
  <dc:creator>Diocesan School for Girls</dc:creator>
  <dc:description/>
  <dc:language>en-US</dc:language>
  <cp:lastModifiedBy>Diocesan School for Girls</cp:lastModifiedBy>
  <dcterms:modified xsi:type="dcterms:W3CDTF">2009-09-15T00:00:01Z</dcterms:modified>
  <cp:revision>42</cp:revision>
  <dc:subject/>
  <dc:title>Slide 1</dc:title>
</cp:coreProperties>
</file>